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569980"/>
        <c:axId val="72149096"/>
      </c:barChart>
      <c:catAx>
        <c:axId val="44569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49096"/>
        <c:crosses val="autoZero"/>
        <c:auto val="1"/>
        <c:lblAlgn val="ctr"/>
        <c:lblOffset val="100"/>
        <c:noMultiLvlLbl val="0"/>
      </c:catAx>
      <c:valAx>
        <c:axId val="72149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69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5A4-476C-467D-9CA8-3B2741E5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FB9-C633-4F25-8389-1CE69B44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05C8-8737-4BB5-9B0E-6AA9BFFD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3335-31B7-42EA-8AD8-05A78632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4844-9B60-4608-9C31-0C718586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CEDE-CAF3-4EDB-9B3D-0A8C53C7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DF88-D6E4-49D8-BE30-1C5BFED2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982-B88E-4222-AE9A-F65175DE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F24-46E5-4C0A-B568-225A5CD9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6F56-BE65-462E-9C53-64F7176D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66EE-0688-4D1B-A49D-6BE0F449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CBB7-1270-447E-86F4-C858054A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A8EF7-5CB8-4FCD-ABC4-972D6AE157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