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62551"/>
        <c:axId val="405999"/>
      </c:barChart>
      <c:catAx>
        <c:axId val="56962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999"/>
        <c:crosses val="autoZero"/>
        <c:auto val="1"/>
        <c:lblAlgn val="ctr"/>
        <c:lblOffset val="100"/>
        <c:noMultiLvlLbl val="0"/>
      </c:catAx>
      <c:valAx>
        <c:axId val="405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62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5F7-AC75-4555-8D47-2D8BCDB2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3EE-896B-47B2-9182-D45333B8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BD8-B857-4EC9-98CA-116BAF50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081-8F88-43E3-855F-80C412BD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9F4-C5FA-4498-B176-7E480EC5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1B8-3376-4D72-BA0B-6BF4F63E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42A-5CC6-43CE-A2E1-104E95C7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916-310A-45D8-96D2-C66165D5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205-BAEA-4939-BF5A-0464643F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F17-A624-446F-BE81-47FADFB6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7E7-C2FC-4D82-A47B-315E9ECE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C5F-15C7-4545-A455-F4E455C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AB3D4-16DF-4FDF-8F12-634E7B224F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