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55774"/>
        <c:axId val="2813534"/>
      </c:barChart>
      <c:catAx>
        <c:axId val="62855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3534"/>
        <c:crosses val="autoZero"/>
        <c:auto val="1"/>
        <c:lblAlgn val="ctr"/>
        <c:lblOffset val="100"/>
        <c:noMultiLvlLbl val="0"/>
      </c:catAx>
      <c:valAx>
        <c:axId val="28135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55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0FBC-6594-4EEE-A075-15E18F550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3B10-92A8-409C-B4A6-FA23BD63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A0E4-CC82-4F7A-9EFE-8A7CC3CC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F36-27CC-4003-A997-385ACB50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C7C4-EC10-4660-B9BA-AF2E95C2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2933-D761-4EEB-9984-975B5EBC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32A9-08C7-4E25-BF5F-16C89512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64B9-B8F0-4BAE-9E41-DD0004DE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BC0-210F-41AD-A5BD-C2E7D446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EB4-8E2F-4202-9215-41AD8274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D951-9DFA-495E-9CE5-9AE5302B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9DB7-A48B-4E2C-89A6-3101CFED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660A7-FEF4-4F2D-A3D3-D8606D5C15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