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46445"/>
        <c:axId val="45705982"/>
      </c:barChart>
      <c:catAx>
        <c:axId val="89346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05982"/>
        <c:crosses val="autoZero"/>
        <c:auto val="1"/>
        <c:lblAlgn val="ctr"/>
        <c:lblOffset val="100"/>
        <c:noMultiLvlLbl val="0"/>
      </c:catAx>
      <c:valAx>
        <c:axId val="45705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46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B3D-B0DB-4175-98EE-91468449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71B-A7AD-459D-A261-6C3E0C58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7F7-DD28-4392-9B0A-7615B9D5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4C5-A4A0-4828-A1AC-9CE23772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050-3EA8-45C7-9D9F-DD8E890E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AED-0F3F-4CF6-999B-394CB527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7C9-9CBF-40EE-A808-170B4CD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82E-733E-4DA7-98EF-F32E0EB5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697-A32C-41A0-ADE5-84827782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BC8-6C31-4221-B253-AFD11EC3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6B5-74DB-4134-8BFD-CE24D76B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B35-4DE5-4928-807B-D7BD52F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4D3D5-D4FE-44A5-A33D-D0CC29A220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