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38750"/>
        <c:axId val="58021227"/>
      </c:barChart>
      <c:catAx>
        <c:axId val="76238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21227"/>
        <c:crosses val="autoZero"/>
        <c:auto val="1"/>
        <c:lblAlgn val="ctr"/>
        <c:lblOffset val="100"/>
        <c:noMultiLvlLbl val="0"/>
      </c:catAx>
      <c:valAx>
        <c:axId val="58021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38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558-2D9B-4F11-B072-50FE0BD7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2FC-FCE6-43C5-A06B-0DE18C71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630-4EFD-4047-BD51-BE07AE5F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98C-FD94-42EB-94A0-82B39C5E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8B4-0968-4615-AE66-5C604622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34F-586A-42F2-9E99-BF7FDD87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0EF-4E80-4642-8ACE-9323CA3A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02B-A20F-4A1E-B044-465EEC97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A1A-991A-409D-A308-CE63D9F6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1C0-3E08-47F2-AB69-61211618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5E5-CCA2-441C-845F-F94C1ABB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373-2061-4100-8E54-E2A6A0FE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6DF4F-0660-4477-9F1A-E6F3637A60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